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416-4670-4353-BB47-8640D12E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5C0-7484-4A5F-A3BC-56CDA60C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A6D57-8852-45DA-88B1-C774313D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F1EB9-059D-4146-B97A-7EACADAA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1A5F0-F7C9-45CA-8EE0-82D71A24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E0CA7-E727-4FBD-8E68-74FC4931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AF6CC-3371-47DB-AEBD-8D63C3C5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20589-0B1F-4C10-9725-208BFD98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196B9-FB46-4A80-BE30-F5600539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7AECE-AFF5-4624-A39B-C108580A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7014F-40D2-4B2C-952B-EFE3B6EE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3F8101-D276-4EF6-8B2A-D422F605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E06-0F3B-4605-8ABB-3392D3AD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536947-7185-482F-88F9-D805219F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9D0CEA-BCF2-440B-8E37-71BF5F86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AEC0ED-7E6B-4189-AEDA-1B8AE26C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2F78D3-4784-4611-B7F2-588F7B25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BFB708-0C0B-4B33-82F7-3E856AE1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9620E3-5AB2-45BD-A03B-81858396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518655-3477-4DED-A725-2B2A451E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0CB9E6-ED1B-440A-96AB-FF3D18A8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1D6281-3235-40AE-B02A-DE681D1A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9F7790-69BC-436A-B562-26E2D267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EB8-BC12-4E63-932D-7660AECC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5D0A76-9381-454E-B4F4-E039BB46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FEFC5-27A1-4C99-B919-2B592DDE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38277-08F2-4AE6-A5A1-571BA5E7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F5D19-3365-4F8B-9855-1CBB8304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0E3FE-66D9-41C9-A530-66497F15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7CF42-BF84-4FEA-BBFB-4EABA884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06678-0335-43C0-B2FB-147B281B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91714-1682-4270-9FCC-1D2ADBA7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792CD-2C86-4492-8FB2-5A2443F1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06A2F-EF98-47EE-BFC5-02520CAC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2211-AEFF-485F-B79F-CC81A52E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80AC8-77A9-4717-84C3-31040F2D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3E96B-2C2A-4948-87FE-B03D3768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311AB-DF06-4F54-9489-DE3E3F93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9515B-7E95-49AD-AE04-82C0956A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9663E-1BB8-494A-8F69-17243612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1A8FA-485D-4285-BC6B-0CA0CE81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516DE-1DBB-4C8A-AA82-3F276BEF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35A73-1F19-4346-8B62-32A56AE7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FD275-C185-4CFC-906F-7F98C315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D7B2D-689E-49A3-BB90-7258D050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3A4D-E289-4EAB-8427-C5EDB215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4041E-8B14-44C6-99F9-33E6DD58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3143E-3C45-4EAF-B45B-A58E743D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C955E-0166-4400-8FD8-1F7BFA74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51E9C-0302-4E61-AB8C-77BD5E98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750F4-9D30-4652-9AC9-829A8DD6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89BB7C-982C-42C5-A69F-6AB4859D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347CF6-AE87-40A7-A37D-A6D72106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04FA76-D166-4A08-B686-8B5863DE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E7B9DB-124F-4A57-AB7B-F6AA229F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5C1A14-42DD-4000-A498-A1867816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9F71-0CF6-4110-9D71-7E354C8A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725D0F-8D7A-4EF0-845C-24D13C8C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C9798F-741F-4EE3-88C8-B0924933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F1D7B0-3B42-4024-BD77-62F19D66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D0710E-76EE-415B-A0AE-E529D82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9A09E6-58AC-47F8-87FC-8A093516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59C211-3B54-4B76-9509-D2363DD9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815E5C-B4A4-426F-9301-2842234B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948BA-42A0-449D-8121-0213FD0F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F1210-9C99-44EB-AE81-41B53D8C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C468D-62C8-480D-9881-4AF29EDF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9FAE-A3D5-4776-8635-25DDD949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4859C-1ED6-471F-A6FE-93CEA9AD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53CF3-597C-45D2-B1FD-2C449E2F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783D6-67CA-4066-A100-066CBF58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BE770-332E-43E9-B009-A2077EC4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5A1A2-0F27-4553-88C4-9917C153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84D46-5412-4CD8-9520-834D9A48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0AA72-2412-4251-8DB4-B4180925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9330D-9E64-4808-AC85-98BFF41E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B7E98-2B00-4533-AE59-5908D9B0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186F-6C61-4AEB-B5D7-8C6D81E8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CB95-4024-4A6D-83A9-36964695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F87C-0892-44A3-BA9A-606FE4D2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553-59E0-436D-9164-ECAD9E75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9058-1B7C-42BF-8701-DAC3F020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93D6-9B48-4C3E-9F97-8EC986B4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519B-6A1B-4512-9E7F-1BD9B19F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5251-BEC7-4DBC-BCA9-0325A21D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50F4-539E-4D93-9815-6259754F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97BC-A907-40D8-83BC-775271E1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0F2BF-AA36-43AF-A8EF-9ED0F77F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146AF-18A7-4BCC-8A31-C2258DA7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2276-48E3-40B6-BEE3-97D67B11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BDF8B-234B-4591-96C8-BBDA0B7C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6B3-44F8-495D-AA7E-1CBAF3DC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31E1-488D-4129-A53A-5E1DC8D1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F8A6-759E-4785-8094-2E5B1290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56DE-FD7C-411D-A84A-205A93AF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ECB7-004D-410B-86E2-BECF7096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8A6B-59B8-41D3-BC14-51BB2CB6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A006E-EE6B-4D1E-8129-7A5F2F7E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A1B6-B052-4112-B03C-825AF42C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F23E-0FEF-4147-B465-917EFE83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B24B3-6EC7-47CF-A5B7-9DC5CA25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39F4E-42F0-48C1-B5E0-23C02C5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55F-9505-49B6-8605-B0E7A76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2B108-FBA8-4FF8-8172-BAB970F1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4444C-221F-4489-BE66-424B0406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E935A-AC00-430D-A88D-F0F4F99C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8F9F5-FB3B-45BC-B4FF-D1E4002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86793-BAE8-4A22-8F5D-76FF0AF9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D8224-F962-4E51-9ED1-30F01B4F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22D1-8A02-4A65-BF8F-D05BCBBD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F661-9937-4EC1-A7C5-042446BC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23416-D269-48C0-8AF6-D9DDE611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8DAA0-0415-4513-B785-E8AAF30D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E86-C980-4772-8D3C-4CBB5266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8B39-F447-435E-91CB-053F5983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6C883-07BA-43E1-A7C5-88225F6F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95986-2685-4DFD-9580-0053A37F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E3739-54A3-4112-878C-B7B66DAD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CE33D-54AA-4A73-BFD6-E5BF0F0E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3073E-F8B9-4101-967F-0DA65C27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70847-9004-48E6-A7A2-3F1380A4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8E683-0F46-4440-9F6A-405B4AEA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584F-52F5-4AED-BB25-5D61B3DC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F48BE-C7BA-4375-8EB4-173B0EF8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82D-5FFE-47A0-BBAD-2F118ABB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92E75-59EA-4CBE-9AE9-DADA624A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47EA0-FB48-4B17-A56C-0F9D4E59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40C77-497F-4BFF-BDE9-ECB2721B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E364E-9E74-4A79-8B8F-82DFF486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3FDCB-2FC4-425C-AB89-153732D9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CE2AB-EFDA-4CBF-B863-4964F86C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C7B2B-0ADD-4374-9181-1D4621DD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3C4DE-2945-4BF1-87F3-A1DCDBD2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600AF-1375-4435-B653-4F9DF03A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F20C6-253A-448B-9F3B-D71F7093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0E4-3F66-45D2-8594-E2BB644D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9133F-4890-4AC7-A15F-BC186263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70CC9-E959-4E5D-8457-3E96A4C3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C1B5A-95AD-4D4F-A273-12BFD98E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44D0A-6F37-4BEE-96B7-FF866FA7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2F6D5-90A2-4A4A-B972-2533EBC6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056D7-E8E4-4018-A570-D65298D1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5D3CA-694A-4885-A083-94C84540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1EF4A-6B2F-4638-AF7F-CCD36634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90295-5C20-435D-AD6D-3F45DC13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9F6C8-598D-4E57-B59A-82A9922D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9E8-A381-4F5D-B1FD-D77A3246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53F69-569F-4CF1-9C55-C4A4266A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253BA-843D-4F03-9196-5DCE2525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38EE0-8750-4EA5-987A-4C5C52AE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0277E-31BF-4643-BBF6-3A9AA2A0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FFF18-2523-49DC-B4F6-576DCEAC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67C498-0FDA-4A8E-9FD8-14BF71AA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65132A-211F-49AC-97C0-C1BE4568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D43584-549E-4814-8262-2248A0B9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116374-1FDE-4F74-AC9E-6E6A336C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41CEFB-53E7-4788-8033-FEF1F199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F6C-6726-494D-BA1E-7304BC1B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24C88C-4200-430F-BBA2-9F7EED93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C4E370-FBF6-49F9-AE76-DF091B5F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90AEB2-9461-4783-BE90-B43B302E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CE65F2-E958-4DEA-86FB-073BF1E2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181613-40BF-45B4-8438-2A8B442F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318605-A988-4F0E-8C95-CEBB3282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9BDECD-0508-4FB8-B32F-265FDE0C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D4E4A-CA39-48F0-93FE-1FDF9D9D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E4ACA-5E5A-49C9-B79F-BFC47E42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1E964-3859-46F6-8DAA-D81D3C3A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4432-6167-472A-A221-1E61E9FA9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40D8-00A4-4D70-A5AB-01F4BCA7E3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2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C340-F565-41BF-93C6-9A521BDFB8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6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74DB-A638-4408-9A1E-1FE2402591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3110-3054-485F-A843-5E0709A635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1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1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6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6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E79C-2538-4157-BD7F-140928AA4D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2377-5B8E-4B1D-A167-08774363E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0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5C2D-C7EE-48FA-9D24-F091D7809F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65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AB27-93A0-4B8C-8E2E-F68521DF94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0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1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552F-B00E-4C6D-93C7-18CB2E5E4F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1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8F9D-D15C-48E8-91D5-139263B1E0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ACFF-73BE-46EB-A033-8886DFBD7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E2F0-5B70-4821-B344-87263AA0B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0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0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1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B4AC-5000-444F-8B05-4D47FCCF4F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ugosvet.ru/enc/nauka_i_tehnika/himiya/ZAGRYAZNENIE_OKRUZHAYUSHCHE_SREDI.html" TargetMode="External"/><Relationship Id="rId2" Type="http://schemas.openxmlformats.org/officeDocument/2006/relationships/hyperlink" Target="http://www.krugosvet.ru/enc/nauka_i_tehnika/himiya/ZAGRYAZNENIE_OKRUZHAYUSHCHE_SREDI.html" TargetMode="External"/><Relationship Id="rId3" Type="http://schemas.openxmlformats.org/officeDocument/2006/relationships/hyperlink" Target="http://www.krugosvet.ru/enc/nauka_i_tehnika/himiya/ZAGRYAZNENIE_OKRUZHAYUSHCHE_SREDI.html" TargetMode="External"/><Relationship Id="rId4" Type="http://schemas.openxmlformats.org/officeDocument/2006/relationships/hyperlink" Target="http://www.krugosvet.ru/enc/nauka_i_tehnika/himiya/ZAGRYAZNENIE_OKRUZHAYUSHCHE_SREDI.html" TargetMode="External"/><Relationship Id="rId5" Type="http://schemas.openxmlformats.org/officeDocument/2006/relationships/hyperlink" Target="http://www.krugosvet.ru/enc/nauka_i_tehnika/himiya/ZAGRYAZNENIE_OKRUZHAYUSHCHE_SREDI.html" TargetMode="External"/><Relationship Id="rId6" Type="http://schemas.openxmlformats.org/officeDocument/2006/relationships/hyperlink" Target="http://www.krugosvet.ru/enc/nauka_i_tehnika/himiya/ZAGRYAZNENIE_OKRUZHAYUSHCHE_SREDI.html" TargetMode="External"/><Relationship Id="rId7" Type="http://schemas.openxmlformats.org/officeDocument/2006/relationships/hyperlink" Target="http://www.krugosvet.ru/enc/nauka_i_tehnika/himiya/ZAGRYAZNENIE_OKRUZHAYUSHCHE_SREDI.html" TargetMode="External"/><Relationship Id="rId8" Type="http://schemas.openxmlformats.org/officeDocument/2006/relationships/hyperlink" Target="http://www.krugosvet.ru/enc/nauka_i_tehnika/himiya/ZAGRYAZNENIE_OKRUZHAYUSHCHE_SREDI.html" TargetMode="External"/><Relationship Id="rId9" Type="http://schemas.openxmlformats.org/officeDocument/2006/relationships/hyperlink" Target="http://www.krugosvet.ru/enc/nauka_i_tehnika/himiya/ZAGRYAZNENIE_OKRUZHAYUSHCHE_SREDI.html" TargetMode="External"/><Relationship Id="rId10" Type="http://schemas.openxmlformats.org/officeDocument/2006/relationships/hyperlink" Target="http://www.krugosvet.ru/enc/nauka_i_tehnika/himiya/ZAGRYAZNENIE_OKRUZHAYUSHCHE_SREDI.html" TargetMode="External"/><Relationship Id="rId11" Type="http://schemas.openxmlformats.org/officeDocument/2006/relationships/hyperlink" Target="http://www.krugosvet.ru/enc/nauka_i_tehnika/himiya/ZAGRYAZNENIE_OKRUZHAYUSHCHE_SREDI.html" TargetMode="External"/><Relationship Id="rId12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10199"/>
                </a:solidFill>
                <a:latin typeface="Monotype Corsiva"/>
              </a:rPr>
              <a:t>Как изменяется влажность  и температурный режим в  рабочих помещениях и как защититься от их неблагоприятного воздейств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ков Серг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ник 10 «а»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ыктывк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9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ь нашего исследов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Monotype Corsiva"/>
              </a:rPr>
              <a:t>Выяснить причины изменения влажности и температурного режима в рабочих помещения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Задачи нашего исследов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Замерить температуру в помещении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равнить с температурой, которая предписана в правилах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Рассмотреть меры борьбы с неблагоприятным воздействием этих температур на организм человек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ормы температур для рабочего поме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455760" y="1598760"/>
          <a:ext cx="8226000" cy="4496760"/>
        </p:xfrm>
        <a:graphic>
          <a:graphicData uri="http://schemas.openxmlformats.org/drawingml/2006/table">
            <a:tbl>
              <a:tblPr/>
              <a:tblGrid>
                <a:gridCol w="2741760"/>
                <a:gridCol w="2742480"/>
                <a:gridCol w="2741760"/>
              </a:tblGrid>
              <a:tr h="149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ериод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птимальная температура воздух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опустимая температура воздух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олодный период(среднесуточная температура наружного воздуха +10гр С, и ниж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16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С до 24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13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 до 25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еплый период( от +10градусов и выш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 18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С до 25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15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до 28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рафик соотношения относительной влажности и самочувствия гражд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1693800" y="2722680"/>
            <a:ext cx="569124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висимость основных факторов, влияющих на здоровье и самочувствие люде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755640" y="2085840"/>
            <a:ext cx="726444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Monotype Corsiv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Относительная влажность воздуха - важный экологический показатель среды. При слишком низкой или слишком высокой влажности наблюдается быстрая утомляемость человека, ухудшение восприятия и памяти. Продукты питания, строительные материалы и даже многие электронные компоненты допускается хранить в строго определённом диапазоне относительной влажности воздуха. Многие технологические процессы возможны только при строгом контроле содержания паров воды в воздухе производственного помещ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итер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krugosvet.ru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enc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nauka_i_tehnika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himiya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ZAGRYAZNENIE_OKRUZHAYUSHCHE_SREDI.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http://slovari.yandex.ru/dict/krugosvet/article/6/68/1011616.ht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http://ru.wikipedia.org/wiki/%D0%AD%D0%BD%D0%B2%D0%B0%D0%B9%D1%80%D0%BE%D0%BD%D0%BC%D0%B5%D0%BD%D1%82%D0%BE%D0%BB%D0%BE%D0%B3%D0%B8%D1%8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3:02:22Z</dcterms:created>
  <dc:creator>User</dc:creator>
  <dc:description/>
  <dc:language>en-US</dc:language>
  <cp:lastModifiedBy>User</cp:lastModifiedBy>
  <dcterms:modified xsi:type="dcterms:W3CDTF">2009-11-21T14:25:45Z</dcterms:modified>
  <cp:revision>4</cp:revision>
  <dc:subject/>
  <dc:title>Как изменяется влажность  и температурный режим в  рабочих помещениях и как защититься от их неблагополучного воздействия?</dc:title>
</cp:coreProperties>
</file>